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DCC-7D3A-4F30-BD5E-CCA78D42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405036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776-5DC1-4F4A-9B3B-2C06CEDC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964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BAB-F72C-49B3-8747-049EF1DD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63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897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963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897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A09-2C3D-498E-8B1A-CDFA7F21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09257-C13F-4158-9E26-3E63405E64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BEBCA-50AE-4E47-8068-C1770AA4EB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DA2DB-8D82-4B13-B6BE-070AA6B961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9FD31-8687-4269-8D3A-1ADFCAF9E3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FBD33-5112-4130-9CE5-B898C34C38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55AEE-E7F4-4F0E-8FAA-F2E73CE387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CDADC-18BE-4C60-9B2D-317ED7DB10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FAA-31A5-480F-B657-E1BD71D6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964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9AE14-F17F-4C00-AF52-142A8CE2FB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4BB41-48FB-4DED-A9D2-A2D2EDED12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405036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C33B4-6F02-44DD-A6CE-AEB495DE77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964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01FCC-F083-49EF-AE0C-560522C05E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63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89720" y="176832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63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89720" y="4050360"/>
            <a:ext cx="2850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8DD31-AD5D-431F-971A-D0E571DCC9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261-2DF4-487A-9BF4-8CE8234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39C-36C1-46F0-AB92-955A2C02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EAD-DE62-49A9-B10E-20C4526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A5B-E4D9-4B42-AD36-3210F8DD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591-B017-4203-A316-88EE51C8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9640" y="405036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D79-3EC6-4550-A4B0-D16B91E9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9640" y="1768320"/>
            <a:ext cx="432036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050360"/>
            <a:ext cx="8853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36B-AA11-4EF7-86AA-2B2BE22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348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F1B43-D218-44A7-AB3A-D3D690E94BE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480" y="0"/>
            <a:ext cx="139356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116208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Droid Sans Fallback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4"/>
          </p:nvPr>
        </p:nvSpPr>
        <p:spPr>
          <a:xfrm>
            <a:off x="-360" y="0"/>
            <a:ext cx="3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3E99D-E065-4D3B-9934-6B84780579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0080720" cy="9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80" y="0"/>
            <a:ext cx="139356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16208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Droid Sans Fallback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567720" y="3424320"/>
            <a:ext cx="3046680" cy="1447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600" y="6118200"/>
            <a:ext cx="4246560" cy="1433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480" y="0"/>
            <a:ext cx="139356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16208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Droid Sans Fallback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9800" y="1646280"/>
            <a:ext cx="9131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roid Sans Fallback"/>
              </a:rPr>
              <a:t>s2dverific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roid Sans Fallback"/>
              </a:rPr>
              <a:t>An R package for seasonal to decadal forecast 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01880" y="3957480"/>
            <a:ext cx="845640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V. Guemas, N. Manubens, C. Prodhomme, V. Torralba, M. Menegoz, O. Bellprat, N. Fuckar, D.Volpi, P.A.  Bretonniere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85920" y="5405400"/>
            <a:ext cx="609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SPECS General Assembly, Norrköping, SMHI, 15/09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0080720" cy="9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480" y="0"/>
            <a:ext cx="139356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16208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Droid Sans Fallback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8209080" y="6458040"/>
            <a:ext cx="1020600" cy="1020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217080" y="6759720"/>
            <a:ext cx="86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XGyreAdventor"/>
              </a:rPr>
              <a:t>C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5400000">
            <a:off x="8525520" y="3942360"/>
            <a:ext cx="1292040" cy="179280"/>
          </a:xfrm>
          <a:prstGeom prst="rightArrow">
            <a:avLst>
              <a:gd name="adj1" fmla="val 19769"/>
              <a:gd name="adj2" fmla="val 3216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9520" y="375912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20" y="363528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9520" y="351144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9520" y="3860640"/>
            <a:ext cx="1298520" cy="30816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000" y="4214880"/>
            <a:ext cx="16128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60" y="1049400"/>
            <a:ext cx="8856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of tools to verify seasonal to decadal forecasts by comparing experimental data with observation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320" y="3630600"/>
            <a:ext cx="371520" cy="6192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41480" y="1903320"/>
            <a:ext cx="810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5c8526"/>
                </a:solidFill>
                <a:latin typeface="Arial"/>
              </a:rPr>
              <a:t>s2dverification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60360" y="2101680"/>
            <a:ext cx="204948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008080" y="2098800"/>
            <a:ext cx="1584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677000" y="2100240"/>
            <a:ext cx="218304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004400" y="2098800"/>
            <a:ext cx="3816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87720" y="7159680"/>
            <a:ext cx="761976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0320" y="3662280"/>
            <a:ext cx="2732040" cy="7462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6440" y="2387520"/>
            <a:ext cx="4067280" cy="92556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limatologies, trend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nomalies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6440" y="3662280"/>
            <a:ext cx="4091040" cy="7477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orrelation, ACC, RMSSS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440" y="4803840"/>
            <a:ext cx="4091040" cy="22003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620000">
            <a:off x="4870440" y="3207960"/>
            <a:ext cx="853920" cy="192240"/>
          </a:xfrm>
          <a:prstGeom prst="rightArrow">
            <a:avLst>
              <a:gd name="adj1" fmla="val 20963"/>
              <a:gd name="adj2" fmla="val 12564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7635600" y="337176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7635600" y="451008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54600" y="5157720"/>
            <a:ext cx="4014720" cy="1838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251840" y="4803840"/>
            <a:ext cx="1434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0320" y="3860640"/>
            <a:ext cx="28098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0320" y="2563920"/>
            <a:ext cx="32036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0320" y="4410000"/>
            <a:ext cx="3203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480000">
            <a:off x="1660320" y="3976560"/>
            <a:ext cx="465120" cy="165240"/>
          </a:xfrm>
          <a:prstGeom prst="rightArrow">
            <a:avLst>
              <a:gd name="adj1" fmla="val 20963"/>
              <a:gd name="adj2" fmla="val 7962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2280000">
            <a:off x="4862520" y="4718520"/>
            <a:ext cx="853920" cy="190440"/>
          </a:xfrm>
          <a:prstGeom prst="rightArrow">
            <a:avLst>
              <a:gd name="adj1" fmla="val 20963"/>
              <a:gd name="adj2" fmla="val 126837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1480000">
            <a:off x="5002200" y="3943440"/>
            <a:ext cx="628560" cy="196920"/>
          </a:xfrm>
          <a:prstGeom prst="rightArrow">
            <a:avLst>
              <a:gd name="adj1" fmla="val 20963"/>
              <a:gd name="adj2" fmla="val 9029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9520" y="138420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9520" y="125892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9520" y="113508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9520" y="1484280"/>
            <a:ext cx="1298520" cy="30816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000" y="1838160"/>
            <a:ext cx="161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320" y="1254240"/>
            <a:ext cx="371520" cy="6192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0320" y="1287360"/>
            <a:ext cx="2732040" cy="7462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0320" y="1484280"/>
            <a:ext cx="2809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0320" y="187200"/>
            <a:ext cx="320364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0320" y="4410000"/>
            <a:ext cx="3203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480000">
            <a:off x="1660320" y="1600200"/>
            <a:ext cx="465120" cy="165240"/>
          </a:xfrm>
          <a:prstGeom prst="rightArrow">
            <a:avLst>
              <a:gd name="adj1" fmla="val 20963"/>
              <a:gd name="adj2" fmla="val 7962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2031840"/>
            <a:ext cx="1800" cy="984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3044880"/>
            <a:ext cx="8201160" cy="154296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ad('tos', c('i00k'), c('ERSST'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('19851101', '19901101', '19951101', '20001101', '20051101'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leadtime = 124, leadtimemin = 1, leadtimemax = 6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eperiod = 1, output = 'areave', latmin = 30, latmax = 4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nmin = 0, lonmax= 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48160" y="4552920"/>
            <a:ext cx="1440" cy="984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93960" y="5580000"/>
            <a:ext cx="1463760" cy="73188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$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28880" y="5580000"/>
            <a:ext cx="1463760" cy="731880"/>
          </a:xfrm>
          <a:prstGeom prst="rect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$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6642000"/>
            <a:ext cx="1463400" cy="731880"/>
          </a:xfrm>
          <a:prstGeom prst="rect">
            <a:avLst/>
          </a:pr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$l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11240" y="6642000"/>
            <a:ext cx="1463760" cy="731880"/>
          </a:xfrm>
          <a:prstGeom prst="rect">
            <a:avLst/>
          </a:prstGeom>
          <a:noFill/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$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4680" y="5162400"/>
            <a:ext cx="424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nbmodel/nobs, nbmemb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bstartdates, nbleadtime, nblat, nblon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86480" y="6100920"/>
            <a:ext cx="2670480" cy="1468440"/>
          </a:xfrm>
          <a:prstGeom prst="rect">
            <a:avLst/>
          </a:prstGeom>
          <a:noFill/>
          <a:ln w="18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 functions of the package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king with this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09520" y="138420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9520" y="125892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9520" y="1135080"/>
            <a:ext cx="1298520" cy="309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9520" y="1484280"/>
            <a:ext cx="1298520" cy="30816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000" y="1838160"/>
            <a:ext cx="1612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6320" y="1254240"/>
            <a:ext cx="371520" cy="6192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2871720"/>
            <a:ext cx="2732400" cy="7462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9240" y="3068640"/>
            <a:ext cx="2810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5760" y="394668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SGF N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RE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14480" y="3444840"/>
            <a:ext cx="716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06640" y="3448080"/>
            <a:ext cx="215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6880" y="2849400"/>
            <a:ext cx="898560" cy="1097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480" y="3073320"/>
            <a:ext cx="679320" cy="679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rot="21480000">
            <a:off x="1976400" y="2999880"/>
            <a:ext cx="865080" cy="457200"/>
          </a:xfrm>
          <a:prstGeom prst="rightArrow">
            <a:avLst>
              <a:gd name="adj1" fmla="val 20963"/>
              <a:gd name="adj2" fmla="val 53522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16120" y="5653080"/>
            <a:ext cx="168120" cy="4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886040" y="1093680"/>
            <a:ext cx="3240" cy="4578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16120" y="111276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24280" y="1052640"/>
            <a:ext cx="695160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  <a:ea typeface="Droid Sans Fallback"/>
              </a:rPr>
              <a:t>Configurable Load func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"/>
                <a:ea typeface="Droid Sans Fallback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- NetCDF 3 and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-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file per member, per start dates, per month, full data in one file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Droid Sans Fallback"/>
              </a:rPr>
              <a:t>- configurable pa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6400" y="344160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4960" y="29559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4960" y="26859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4960" y="245124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4960" y="369396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73160" y="39276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416088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3160" y="223524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552840" y="3689280"/>
            <a:ext cx="6527880" cy="2540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2680" y="7120080"/>
            <a:ext cx="36576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ApplyMatching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25960" y="6345360"/>
            <a:ext cx="20178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File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08320" y="7083360"/>
            <a:ext cx="20178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File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4320" y="6526080"/>
            <a:ext cx="22860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File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240" y="5896080"/>
            <a:ext cx="228600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Show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0080" y="6740640"/>
            <a:ext cx="3251160" cy="411120"/>
          </a:xfrm>
          <a:prstGeom prst="rect">
            <a:avLst/>
          </a:prstGeom>
          <a:noFill/>
          <a:ln w="36720">
            <a:solidFill>
              <a:srgbClr val="28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360" rIns="108360" tIns="63360" bIns="63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figShowSimilar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rot="5400000">
            <a:off x="8525520" y="3942360"/>
            <a:ext cx="1292040" cy="179280"/>
          </a:xfrm>
          <a:prstGeom prst="rightArrow">
            <a:avLst>
              <a:gd name="adj1" fmla="val 19769"/>
              <a:gd name="adj2" fmla="val 3216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41480" y="1903320"/>
            <a:ext cx="810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5c8526"/>
                </a:solidFill>
                <a:latin typeface="Arial"/>
              </a:rPr>
              <a:t>s2dverification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60360" y="2101680"/>
            <a:ext cx="204948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008080" y="2098800"/>
            <a:ext cx="1584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677000" y="2100240"/>
            <a:ext cx="218304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0004400" y="2098800"/>
            <a:ext cx="3816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87720" y="7159680"/>
            <a:ext cx="761976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0320" y="2871720"/>
            <a:ext cx="2932200" cy="36212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6440" y="2387520"/>
            <a:ext cx="4067280" cy="720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Categorization of ensembl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4160" y="3475080"/>
            <a:ext cx="4676760" cy="10144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Ranked correlation, CRP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Arial"/>
              </a:rPr>
              <a:t>ACC bootstrap confidence interv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7635600" y="322740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7635600" y="451008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0320" y="3068640"/>
            <a:ext cx="2809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00320" y="2130480"/>
            <a:ext cx="3203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00320" y="3726000"/>
            <a:ext cx="32036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1480000">
            <a:off x="5002200" y="3909960"/>
            <a:ext cx="299880" cy="196920"/>
          </a:xfrm>
          <a:prstGeom prst="rightArrow">
            <a:avLst>
              <a:gd name="adj1" fmla="val 20963"/>
              <a:gd name="adj2" fmla="val 43077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00320" y="3724200"/>
            <a:ext cx="2932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Supports datasets stored in OpeNDAP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Exploits multi-core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Can work with data in many forma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cc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NetCDF, NetCDF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File per member, file per starting date, single fil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Supports specific folder and file naming conven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80080" y="4756320"/>
            <a:ext cx="4216320" cy="22968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342200" y="4794120"/>
            <a:ext cx="2531880" cy="2217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80080" y="4754520"/>
            <a:ext cx="2459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Arial"/>
              </a:rPr>
              <a:t>Stereographic proj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21480000">
            <a:off x="1978200" y="4600440"/>
            <a:ext cx="176040" cy="150840"/>
          </a:xfrm>
          <a:prstGeom prst="rightArrow">
            <a:avLst>
              <a:gd name="adj1" fmla="val 20963"/>
              <a:gd name="adj2" fmla="val 3301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288612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0200" y="277164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0200" y="265896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0200" y="254808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7280" y="3303720"/>
            <a:ext cx="14763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2920" y="524664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G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36720" y="539280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908000" y="3468240"/>
            <a:ext cx="1800" cy="1933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4160" y="2658960"/>
            <a:ext cx="339840" cy="5724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6720" y="347832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3800" y="474804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84040" y="4149720"/>
            <a:ext cx="898560" cy="1096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1280" y="4373640"/>
            <a:ext cx="679680" cy="679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21480000">
            <a:off x="5132160" y="5479920"/>
            <a:ext cx="547560" cy="206640"/>
          </a:xfrm>
          <a:prstGeom prst="rightArrow">
            <a:avLst>
              <a:gd name="adj1" fmla="val 20963"/>
              <a:gd name="adj2" fmla="val 74956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21480000">
            <a:off x="5127120" y="2852640"/>
            <a:ext cx="547920" cy="206640"/>
          </a:xfrm>
          <a:prstGeom prst="rightArrow">
            <a:avLst>
              <a:gd name="adj1" fmla="val 20963"/>
              <a:gd name="adj2" fmla="val 75005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6360" y="1227240"/>
            <a:ext cx="8856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Contributio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the period 2014-2015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5400000">
            <a:off x="8525520" y="3942360"/>
            <a:ext cx="1292040" cy="179280"/>
          </a:xfrm>
          <a:prstGeom prst="rightArrow">
            <a:avLst>
              <a:gd name="adj1" fmla="val 19769"/>
              <a:gd name="adj2" fmla="val 3216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41480" y="1903320"/>
            <a:ext cx="810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5c8526"/>
                </a:solidFill>
                <a:latin typeface="Arial"/>
              </a:rPr>
              <a:t>s2dverification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160360" y="2101680"/>
            <a:ext cx="204948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008080" y="2098800"/>
            <a:ext cx="1584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77000" y="2100240"/>
            <a:ext cx="218304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0004400" y="2098800"/>
            <a:ext cx="38160" cy="49622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87720" y="7159680"/>
            <a:ext cx="761976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7240" y="2871720"/>
            <a:ext cx="3139920" cy="31640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16440" y="2387520"/>
            <a:ext cx="4067280" cy="720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ASIC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6b0094"/>
                </a:solidFill>
                <a:latin typeface="Arial"/>
              </a:rPr>
              <a:t>Clu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61080" y="3475080"/>
            <a:ext cx="4211640" cy="101448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420e"/>
                </a:solidFill>
                <a:latin typeface="Arial"/>
              </a:rPr>
              <a:t>Brier Score</a:t>
            </a: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, </a:t>
            </a:r>
            <a:r>
              <a:rPr b="0" i="1" lang="en-GB" sz="2200" spc="-1" strike="noStrike">
                <a:solidFill>
                  <a:srgbClr val="6b0094"/>
                </a:solidFill>
                <a:latin typeface="Arial"/>
              </a:rPr>
              <a:t>Bootstrap</a:t>
            </a: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635600" y="322740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7635600" y="4510080"/>
            <a:ext cx="236520" cy="195120"/>
          </a:xfrm>
          <a:prstGeom prst="rightArrow">
            <a:avLst>
              <a:gd name="adj1" fmla="val 20963"/>
              <a:gd name="adj2" fmla="val 34289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0320" y="3068640"/>
            <a:ext cx="28098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00320" y="2130480"/>
            <a:ext cx="32036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1480000">
            <a:off x="5303880" y="3914280"/>
            <a:ext cx="431640" cy="196920"/>
          </a:xfrm>
          <a:prstGeom prst="rightArrow">
            <a:avLst>
              <a:gd name="adj1" fmla="val 20963"/>
              <a:gd name="adj2" fmla="val 6200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7240" y="3544920"/>
            <a:ext cx="313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6b0094"/>
                </a:solidFill>
                <a:latin typeface="Arial"/>
                <a:ea typeface="Droid Sans Fallback"/>
              </a:rPr>
              <a:t>Exploit sub-setting from THRE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420e"/>
                </a:solidFill>
                <a:latin typeface="Arial"/>
                <a:ea typeface="Droid Sans Fallback"/>
              </a:rPr>
              <a:t>Load file per chu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6b0094"/>
                </a:solidFill>
                <a:latin typeface="Arial"/>
                <a:ea typeface="Droid Sans Fallback"/>
              </a:rPr>
              <a:t>Generate obs member from obs uncertain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ff420e"/>
                </a:solidFill>
                <a:latin typeface="Arial"/>
                <a:ea typeface="Droid Sans Fallback"/>
              </a:rPr>
              <a:t>Improve the masking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80080" y="4756320"/>
            <a:ext cx="4216320" cy="229680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80080" y="4754520"/>
            <a:ext cx="2459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480000">
            <a:off x="1978200" y="4600440"/>
            <a:ext cx="176040" cy="150840"/>
          </a:xfrm>
          <a:prstGeom prst="rightArrow">
            <a:avLst>
              <a:gd name="adj1" fmla="val 20963"/>
              <a:gd name="adj2" fmla="val 3301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0200" y="288612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0200" y="277164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0200" y="265896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2548080"/>
            <a:ext cx="118908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7280" y="3303720"/>
            <a:ext cx="14763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2920" y="524664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G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36720" y="539280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908000" y="3468240"/>
            <a:ext cx="1800" cy="1933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84160" y="2658960"/>
            <a:ext cx="339840" cy="5724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36720" y="347832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3800" y="4748040"/>
            <a:ext cx="215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84040" y="4149720"/>
            <a:ext cx="898560" cy="1096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1280" y="4373640"/>
            <a:ext cx="679680" cy="679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21480000">
            <a:off x="5132160" y="5479920"/>
            <a:ext cx="547560" cy="206640"/>
          </a:xfrm>
          <a:prstGeom prst="rightArrow">
            <a:avLst>
              <a:gd name="adj1" fmla="val 20963"/>
              <a:gd name="adj2" fmla="val 74956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21480000">
            <a:off x="5127120" y="2852640"/>
            <a:ext cx="547920" cy="206640"/>
          </a:xfrm>
          <a:prstGeom prst="rightArrow">
            <a:avLst>
              <a:gd name="adj1" fmla="val 20963"/>
              <a:gd name="adj2" fmla="val 75005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1227240"/>
            <a:ext cx="8856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b0094"/>
                </a:solidFill>
                <a:latin typeface="Arial"/>
              </a:rPr>
              <a:t>On-go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dd4814"/>
                </a:solidFill>
                <a:latin typeface="Arial"/>
              </a:rPr>
              <a:t>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48520" y="4836960"/>
            <a:ext cx="12398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rot="5400000">
            <a:off x="8525520" y="4195080"/>
            <a:ext cx="1292400" cy="179280"/>
          </a:xfrm>
          <a:prstGeom prst="rightArrow">
            <a:avLst>
              <a:gd name="adj1" fmla="val 19769"/>
              <a:gd name="adj2" fmla="val 3217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488360" y="419040"/>
            <a:ext cx="1020600" cy="1020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496360" y="720720"/>
            <a:ext cx="863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eXGyreAdventor"/>
              </a:rPr>
              <a:t>C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0" y="1152360"/>
            <a:ext cx="3456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asonal to decadal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6360" y="1662120"/>
            <a:ext cx="8856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66cc"/>
                </a:solidFill>
                <a:latin typeface="Arial"/>
              </a:rPr>
              <a:t>Contributio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n the period 2014-2015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03640" y="2448000"/>
            <a:ext cx="7414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5c8526"/>
                </a:solidFill>
                <a:latin typeface="Arial"/>
              </a:rPr>
              <a:t>s2dverificatio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503440" y="2627280"/>
            <a:ext cx="215424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376360" y="2722680"/>
            <a:ext cx="1800" cy="434808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65960" y="2627280"/>
            <a:ext cx="2185920" cy="180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9683640" y="2703240"/>
            <a:ext cx="17640" cy="436716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29000" y="7159680"/>
            <a:ext cx="6973920" cy="1440"/>
          </a:xfrm>
          <a:prstGeom prst="line">
            <a:avLst/>
          </a:prstGeom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59280" y="2879640"/>
            <a:ext cx="3743640" cy="720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IC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Categorization of ensembl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59280" y="3959280"/>
            <a:ext cx="3745080" cy="6840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Ranked correlation, CR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ACC bootstrap confidence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59280" y="5003640"/>
            <a:ext cx="3745080" cy="2052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7516080" y="3691800"/>
            <a:ext cx="216000" cy="179280"/>
          </a:xfrm>
          <a:prstGeom prst="rightArrow">
            <a:avLst>
              <a:gd name="adj1" fmla="val 20963"/>
              <a:gd name="adj2" fmla="val 3408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7516080" y="4734720"/>
            <a:ext cx="216000" cy="179280"/>
          </a:xfrm>
          <a:prstGeom prst="rightArrow">
            <a:avLst>
              <a:gd name="adj1" fmla="val 20963"/>
              <a:gd name="adj2" fmla="val 3408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59280" y="5002200"/>
            <a:ext cx="1476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Stereographic pro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40160" y="2952720"/>
            <a:ext cx="293184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40160" y="4643280"/>
            <a:ext cx="293184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1480000">
            <a:off x="2303640" y="4210200"/>
            <a:ext cx="176040" cy="150840"/>
          </a:xfrm>
          <a:prstGeom prst="rightArrow">
            <a:avLst>
              <a:gd name="adj1" fmla="val 20963"/>
              <a:gd name="adj2" fmla="val 33013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9280" y="3430440"/>
            <a:ext cx="118872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9280" y="3316320"/>
            <a:ext cx="118872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9280" y="3203640"/>
            <a:ext cx="118872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9280" y="3092400"/>
            <a:ext cx="1188720" cy="282600"/>
          </a:xfrm>
          <a:prstGeom prst="ellipse">
            <a:avLst/>
          </a:prstGeom>
          <a:solidFill>
            <a:srgbClr val="cfe7f5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3848040"/>
            <a:ext cx="1476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5791320"/>
            <a:ext cx="180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G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60720" y="5289480"/>
            <a:ext cx="71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232000" y="3365280"/>
            <a:ext cx="1440" cy="1933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73240" y="3203640"/>
            <a:ext cx="339480" cy="57240"/>
          </a:xfrm>
          <a:prstGeom prst="ellipse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60720" y="3375000"/>
            <a:ext cx="71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52520" y="529272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73120" y="4694400"/>
            <a:ext cx="898560" cy="1096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60360" y="4917960"/>
            <a:ext cx="679320" cy="6796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535120" y="3060720"/>
            <a:ext cx="2932200" cy="306072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04040" y="3164040"/>
            <a:ext cx="215640" cy="179280"/>
          </a:xfrm>
          <a:prstGeom prst="rightArrow">
            <a:avLst>
              <a:gd name="adj1" fmla="val 20963"/>
              <a:gd name="adj2" fmla="val 34024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02240" y="4206960"/>
            <a:ext cx="216000" cy="179280"/>
          </a:xfrm>
          <a:prstGeom prst="rightArrow">
            <a:avLst>
              <a:gd name="adj1" fmla="val 20963"/>
              <a:gd name="adj2" fmla="val 3408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02240" y="5826240"/>
            <a:ext cx="216000" cy="179280"/>
          </a:xfrm>
          <a:prstGeom prst="rightArrow">
            <a:avLst>
              <a:gd name="adj1" fmla="val 20963"/>
              <a:gd name="adj2" fmla="val 34081"/>
            </a:avLst>
          </a:prstGeom>
          <a:solidFill>
            <a:srgbClr val="99ccff">
              <a:alpha val="7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35120" y="3198960"/>
            <a:ext cx="2932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RETR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35120" y="3522600"/>
            <a:ext cx="2932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Supports datasets stored in OpeNDAP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Exploits multi-core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66cc"/>
                </a:solidFill>
                <a:latin typeface="Arial"/>
              </a:rPr>
              <a:t>Can work with data in many forma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cc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NetCDF, NetCDF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File per member, file per starting date, single fil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roid Sans Fallback"/>
              </a:rPr>
              <a:t>Supports specific folder and file naming conven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7236000" y="5037120"/>
            <a:ext cx="22492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3:54:37Z</dcterms:created>
  <dc:creator>Nicolau Gil</dc:creator>
  <dc:description/>
  <dc:language>en-US</dc:language>
  <cp:lastModifiedBy/>
  <cp:revision>0</cp:revision>
  <dc:subject/>
  <dc:title/>
</cp:coreProperties>
</file>